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44F-0FC1-457F-A8E0-4D902764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463-4AC2-444B-8303-08F60CC7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97B4-F17C-41A9-8018-2013512B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35F-5AF0-4C98-80AA-6F3BAC50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1E2-0032-4B48-8DC1-6B66531A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5C75-DEFA-4B76-A95D-B57F30B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3AF-AFCC-4A78-A53D-B2DF5963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CF3-9B61-4BB7-A30B-727B5AEF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C97-D9BB-4E39-8D03-57D6D67E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F5E-A7FD-4B3A-BF5F-1DCBFF52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572-4F18-445C-9FAA-548B6B39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EEF-9306-4537-A3B1-28A9553A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2FA0-2371-4644-9E5C-002FB9FA9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small - need an electron microscop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ic - need a host; cannot reproduce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iving - do not carry out life functions 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mutate - can become resistan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ece of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NA or RNA) surrounded by a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rotein coat (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pe (rod, spherical, polyhedra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nucleic acid it contains (DNA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host affected (very specific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es or type of tissue it infec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of transmission (how it enters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- through ski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alation, food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type of disease they 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772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 - anything that carries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s disease cau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needles, water, fingers, foo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, mic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- produces disease &amp; kills host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ttachment:  virus particle attaches to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Entry:  virus particle enters the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Replication: new genetic material &amp; proteins 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- Formation: new virus particles are assemb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- Lysis &amp; release:  host cell splits open &amp; n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 particles are rel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ttack other hos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tic cycle - active infection process; viruses take over (hijack) a host cell &amp; use it to make more vir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sogenic cycle - virus remains dormant and is reproduced with host DNA (p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can have a virus like this for years and not know (HIV, herpes, Hepatitis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 &amp; Disease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on: vaccines - Edward Jenner developed first vaccine in 17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ses:  white blood cells, antibodi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13:41:13Z</dcterms:created>
  <dc:creator>NHS NPS</dc:creator>
  <dc:description/>
  <dc:language>en-US</dc:language>
  <cp:lastModifiedBy>NHS NPS</cp:lastModifiedBy>
  <dcterms:modified xsi:type="dcterms:W3CDTF">2012-03-21T15:12:59Z</dcterms:modified>
  <cp:revision>3</cp:revision>
  <dc:subject/>
  <dc:title>Viruses </dc:title>
</cp:coreProperties>
</file>